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9.jpeg" ContentType="image/jpeg"/>
  <Override PartName="/ppt/media/image28.png" ContentType="image/png"/>
  <Override PartName="/ppt/media/image16.png" ContentType="image/png"/>
  <Override PartName="/ppt/media/image23.jpeg" ContentType="image/jpe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4DAF3-8C52-46A3-B674-1CAE2FCA0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B9DBB-5B10-47D5-8266-F9451EA8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57469-39CD-4529-98F5-0A4E431C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5FA79-0959-4E68-B22B-4572E8ADA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E26FF-C60F-4A21-AC04-78DD07479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0200C-FCBC-43E9-BE7A-A6F580543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9D2D9-A21C-4398-B3C1-8FDB8B9A1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49B95-536E-421A-9E95-CF785BB47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FC624-3601-4344-994C-E467B8904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90492-E096-4878-8078-B799968FC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D8348-1EEE-4BDA-AB0D-93B9934D1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3735-FD81-45B6-AFBD-7F8827EB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DA58-CC24-4B49-863A-B9191F59E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836E3-AC7B-43DB-9C3E-94E96B6F7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932A2-8520-4D1D-A0E8-D669975E7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D068E-833C-4845-A202-9C6D6CC3D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4B07B-7A3C-4B75-927B-F30954D95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6EDEB-350F-4C5B-B3CA-9CEDE42FE3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F758F-0B28-424E-929C-91B0CA7DA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05E060-91B0-4A72-9251-53466AC63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B81C0-6242-49CC-99D8-F1709EF38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0BD2E-202F-42D3-94CC-B3F8742DB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29969-A7DD-449B-8D84-ADDB9DFF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4892E-48BA-43EE-BE3A-368CEC8E5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FEC82-B220-405A-97EE-A4362454E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9FD99-929D-45F5-8474-904508167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5E6DD-0454-4C14-A5D2-58FE5BE26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609BB-797A-4ACF-B03B-FB882DAF0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E2BF5D-676F-4F58-82F4-E7CB37FF36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6D63F1-C924-4E92-903E-BD5824CE3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91C07-AE6D-4E14-A98E-E9F7C4EA4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EB26F-51DB-4AA1-AB86-ECA8DDEB6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18561-6B18-4871-91C9-6A68303D6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1F19-72F8-441C-8540-83A0E600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1CC33-54AB-44A2-B38D-FB301C6D8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D5127-2116-41BA-92E7-AC7B5CF73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46131-49B5-428D-BDA5-FE02A1BAA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BA687-EAAB-4223-BA97-21D5F81FF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0E4FC-8E1C-425D-AC15-B1F0F7146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369AB-AD55-4888-9853-F291F3A78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D05AD-746D-40B9-B1BA-2F65FD6E0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36D3B-9945-4F45-96D6-CEA41BD5A4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CB187-B131-490C-8FE3-D922E4041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7F3B3-2DA4-4BBC-A6ED-0216FC3398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81A8-5E22-4A7B-976A-8A5212F2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CA399-965D-4D22-B6FD-26BDA60A7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2FAE4-13A9-4E4D-9B2C-DEB25EA10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251A04-7225-4718-A856-9054A3BFE0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E2436-649C-4D8F-AAAA-CBA12ABA7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E2F42-0525-4195-A583-01287DAEC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B8607-4450-4B8D-AE69-35E00D6FF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5F1E0-8F0F-4F51-AE49-FD3CE2F0A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E5A65-02FE-4454-9272-79DF5BC45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2096D-7457-473B-8198-1B73E496D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86BAB-A7E7-4934-B853-A0C92781C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8D57-BC76-4E93-8625-BB397F8C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D2710F-D965-4725-89E6-2CBB0F982E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686D56-B17F-4AE7-A465-D68026427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FCF0FB-703C-4D1B-8F0F-444EDA070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6B16E-4B1E-490B-89C5-810D1B0429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5D9EC-E3CE-4872-A2E6-079B5E416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261315-EF5F-4180-B892-E01F64D48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C96BF-6C69-4C2F-9900-C1BDAC73F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A2782-5F48-4C64-8173-4EAA63614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EFF44-FF27-4B54-86C6-317914F30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1C516-81EF-41D2-8A29-F240D3401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D5F2-59A5-43A8-86A7-9B2BA6D6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D3873-A48D-4182-9763-E10D90755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6B8EF-EBB1-487D-8FB6-1DC052D626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6EF4CD-F0ED-497D-BD0C-2C8938AE92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433ACB-0BD5-4F15-BA2B-64E2E0ECCD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37B882-0307-4D1C-B73D-CFCDA6A9D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63DE3-9EA6-45F8-ACED-8B56B662F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344FF-E767-4707-B2E6-8B6FC6C79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3847A-F1AB-4642-B7B3-5BD44B3E6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24829-7CFF-4CFD-9EED-B2AD07D17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6037F-1FA4-44BD-B4BD-2627F7D07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0023-C77C-4630-966F-32400EEC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8E944-85B2-42D7-B283-499A209FE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2803D-EBB3-4B83-8AB1-297740B68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4EDCB-31D6-4D7F-9311-7FC249A4C9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528F47-A413-4D81-80FF-39C81D7582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002668-48A5-41DF-83CD-46768A54A0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82BF0-BA90-4D68-9F73-F7125FC41E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562041-01BF-4966-8FEE-D3B2C1BC6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A6C3C-7ACB-4DB6-9453-BA550F81B0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16825F-CA5F-4F75-8DD8-7D392B70AD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004FDF-4D65-4B46-B35A-02D782077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AAB4-2A4A-4B94-95F0-D41826DCB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276BE-C72B-45CA-ACCA-CA305B6820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96C6F-3C8A-4839-8295-DF4AD95B9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58E53-21AD-475B-A2B5-0B4C49DFB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D1BB4-30CA-4D0F-80F4-9E2BDA5FD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54EBA-74D1-4BBC-8669-1709469CB3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23086A-BDB6-4E8E-92E0-2017213B70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4EBEA-201A-44FC-B714-2D6DE05708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9563-74C7-422A-9D3B-11EC17DB4FF9}"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BFF9-D6E8-4AF8-BB0E-AB79A32328FB}" type="slidenum">
              <a:rPr b="0" lang="es-C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8420-FAC4-4DAD-899B-280D7C499A7A}"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1FE8-7047-43C6-9CD0-2541E0E2C2A3}"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3116-D946-4B31-8CE9-A0119F76CCE2}"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A27F-8E5A-4135-8F2B-5CDC91F3AC8A}"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6A84-4CF5-45DE-9CD7-168E0D25B7F4}"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2C89-C976-4AE6-8D61-6169CEF27FEB}" type="slidenum">
              <a:rPr b="0" lang="es-C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81200" y="487440"/>
            <a:ext cx="8210520" cy="2212920"/>
          </a:xfrm>
          <a:prstGeom prst="rect">
            <a:avLst/>
          </a:prstGeom>
          <a:ln w="0">
            <a:noFill/>
          </a:ln>
        </p:spPr>
      </p:pic>
      <p:sp>
        <p:nvSpPr>
          <p:cNvPr id="371" name="PlaceHolder 1"/>
          <p:cNvSpPr>
            <a:spLocks noGrp="1"/>
          </p:cNvSpPr>
          <p:nvPr>
            <p:ph type="subTitle"/>
          </p:nvPr>
        </p:nvSpPr>
        <p:spPr>
          <a:xfrm>
            <a:off x="1356840" y="3142800"/>
            <a:ext cx="3643560" cy="17146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64646"/>
                </a:solidFill>
                <a:latin typeface="Lucida Sans Unicode"/>
              </a:rPr>
              <a:t>ALIN PEÑA</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64646"/>
                </a:solidFill>
                <a:latin typeface="Lucida Sans Unicode"/>
              </a:rPr>
              <a:t>ARIADNA FLORES</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464646"/>
                </a:solidFill>
                <a:latin typeface="Lucida Sans Unicode"/>
              </a:rPr>
              <a:t>RESTAURACIÓN DE POBLACIONES</a:t>
            </a:r>
            <a:endParaRPr b="0" lang="en-US" sz="1700" spc="-1" strike="noStrike">
              <a:solidFill>
                <a:srgbClr val="000000"/>
              </a:solidFill>
              <a:latin typeface="Lucida Sans Unicode"/>
            </a:endParaRPr>
          </a:p>
        </p:txBody>
      </p:sp>
      <p:pic>
        <p:nvPicPr>
          <p:cNvPr id="372" name="Picture 6" descr="http://www.uah.es/grafica/comunes/universidad_alcala_logotipo.gif"/>
          <p:cNvPicPr/>
          <p:nvPr/>
        </p:nvPicPr>
        <p:blipFill>
          <a:blip r:embed="rId2"/>
          <a:stretch/>
        </p:blipFill>
        <p:spPr>
          <a:xfrm>
            <a:off x="142920" y="571680"/>
            <a:ext cx="1695240" cy="591840"/>
          </a:xfrm>
          <a:prstGeom prst="rect">
            <a:avLst/>
          </a:prstGeom>
          <a:ln w="0">
            <a:noFill/>
          </a:ln>
        </p:spPr>
      </p:pic>
      <p:sp>
        <p:nvSpPr>
          <p:cNvPr id="373" name="Text Box 6"/>
          <p:cNvSpPr/>
          <p:nvPr/>
        </p:nvSpPr>
        <p:spPr>
          <a:xfrm>
            <a:off x="2643120" y="655308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ster Oficial en Restauración de Ecosistemas</a:t>
            </a:r>
            <a:endParaRPr b="0" lang="en-US" sz="1400" spc="-1" strike="noStrike">
              <a:solidFill>
                <a:srgbClr val="000000"/>
              </a:solidFill>
              <a:latin typeface="Arial"/>
            </a:endParaRPr>
          </a:p>
        </p:txBody>
      </p:sp>
      <p:pic>
        <p:nvPicPr>
          <p:cNvPr id="374" name="Picture 14" descr="75%2520-%2520Escudo_UCM"/>
          <p:cNvPicPr/>
          <p:nvPr/>
        </p:nvPicPr>
        <p:blipFill>
          <a:blip r:embed="rId3"/>
          <a:stretch/>
        </p:blipFill>
        <p:spPr>
          <a:xfrm>
            <a:off x="285840" y="2286000"/>
            <a:ext cx="571320" cy="620640"/>
          </a:xfrm>
          <a:prstGeom prst="rect">
            <a:avLst/>
          </a:prstGeom>
          <a:ln w="0">
            <a:noFill/>
          </a:ln>
        </p:spPr>
      </p:pic>
      <p:pic>
        <p:nvPicPr>
          <p:cNvPr id="375" name="Picture 16" descr="upm"/>
          <p:cNvPicPr/>
          <p:nvPr/>
        </p:nvPicPr>
        <p:blipFill>
          <a:blip r:embed="rId4"/>
          <a:stretch/>
        </p:blipFill>
        <p:spPr>
          <a:xfrm>
            <a:off x="285840" y="3214800"/>
            <a:ext cx="571320" cy="653760"/>
          </a:xfrm>
          <a:prstGeom prst="rect">
            <a:avLst/>
          </a:prstGeom>
          <a:ln w="0">
            <a:noFill/>
          </a:ln>
        </p:spPr>
      </p:pic>
      <p:pic>
        <p:nvPicPr>
          <p:cNvPr id="376" name="Picture 18" descr="Ver imagen en tamaño completo"/>
          <p:cNvPicPr/>
          <p:nvPr/>
        </p:nvPicPr>
        <p:blipFill>
          <a:blip r:embed="rId5"/>
          <a:stretch/>
        </p:blipFill>
        <p:spPr>
          <a:xfrm>
            <a:off x="357120" y="1357200"/>
            <a:ext cx="1143000" cy="586080"/>
          </a:xfrm>
          <a:prstGeom prst="rect">
            <a:avLst/>
          </a:prstGeom>
          <a:ln w="0">
            <a:noFill/>
          </a:ln>
        </p:spPr>
      </p:pic>
      <p:pic>
        <p:nvPicPr>
          <p:cNvPr id="377" name="Picture 9" descr=""/>
          <p:cNvPicPr/>
          <p:nvPr/>
        </p:nvPicPr>
        <p:blipFill>
          <a:blip r:embed="rId6"/>
          <a:stretch/>
        </p:blipFill>
        <p:spPr>
          <a:xfrm>
            <a:off x="6000840" y="2714760"/>
            <a:ext cx="314316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1 Título" descr=""/>
          <p:cNvPicPr/>
          <p:nvPr/>
        </p:nvPicPr>
        <p:blipFill>
          <a:blip r:embed="rId1"/>
          <a:stretch/>
        </p:blipFill>
        <p:spPr>
          <a:xfrm>
            <a:off x="219240" y="158760"/>
            <a:ext cx="8686800" cy="1273320"/>
          </a:xfrm>
          <a:prstGeom prst="rect">
            <a:avLst/>
          </a:prstGeom>
          <a:ln w="0">
            <a:noFill/>
          </a:ln>
        </p:spPr>
      </p:pic>
      <p:sp>
        <p:nvSpPr>
          <p:cNvPr id="418" name="4 CuadroTexto"/>
          <p:cNvSpPr/>
          <p:nvPr/>
        </p:nvSpPr>
        <p:spPr>
          <a:xfrm>
            <a:off x="500040" y="1500120"/>
            <a:ext cx="7572240" cy="42609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tomara en consideración la población existente mas próxima al área impactada, como fuente de material genético en la consecuente obtención de propágulos o semillas, a utilizar en el reforzamiento.</a:t>
            </a: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plantea el uso de propágulos o semillas, para la producción en vivero. Las plantas del vivero están listas para la siembra después de tres meses o cuando las mismas alcanzan entre 4 a 6 hojas.</a:t>
            </a: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la siembra se considerara conveniente hacer congeniar la época de plantación con la temporada local de establecimiento de nuevos organis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1 CuadroTexto"/>
          <p:cNvSpPr/>
          <p:nvPr/>
        </p:nvSpPr>
        <p:spPr>
          <a:xfrm>
            <a:off x="500040" y="1714680"/>
            <a:ext cx="8143920" cy="37548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  </a:t>
            </a:r>
            <a:r>
              <a:rPr b="0" lang="es-ES" sz="1600" spc="-1" strike="noStrike">
                <a:solidFill>
                  <a:srgbClr val="000000"/>
                </a:solidFill>
                <a:latin typeface="Lucida Sans Unicode"/>
              </a:rPr>
              <a:t>Crece sobre un sustrato lodoso, negro-arenoso, arcilloso, café claro, areno arcilloso, sobre zonas pantanosas o inundadas, con un pH de 6.6 cuando está </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e estima que se necesita menos de 2 semanas para ver a una plántula firmemente anclada. Entre las condiciones determinantes para el establecimiento están:</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 </a:t>
            </a:r>
            <a:r>
              <a:rPr b="0" lang="es-ES" sz="1600" spc="-1" strike="noStrike">
                <a:solidFill>
                  <a:srgbClr val="000000"/>
                </a:solidFill>
                <a:latin typeface="Lucida Sans Unicode"/>
              </a:rPr>
              <a:t>Superficie cubierta por la marea,  alturas de inundación de la marea, entrada de agua dulce, escorrentía y velocidad de la marea, salinidad del agua de la marea, entrada de agua dulce, carga de sedimentos en el agua de la marea, textura del suelo, temperatura del agua del océano. </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u sobrevivencia y establecimiento se ve afectado por la temperatura del aire, las corrientes oceánicas y el oleaje fuerte. El tamaño del propágulo es uno de los factores que más afectan el establecimiento de las mismas. </a:t>
            </a:r>
            <a:endParaRPr b="0" lang="en-US" sz="1600" spc="-1" strike="noStrike">
              <a:solidFill>
                <a:srgbClr val="000000"/>
              </a:solidFill>
              <a:latin typeface="Arial"/>
            </a:endParaRPr>
          </a:p>
        </p:txBody>
      </p:sp>
      <p:sp>
        <p:nvSpPr>
          <p:cNvPr id="420" name="2 Rectángulo"/>
          <p:cNvSpPr/>
          <p:nvPr/>
        </p:nvSpPr>
        <p:spPr>
          <a:xfrm>
            <a:off x="428760" y="285840"/>
            <a:ext cx="764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64646"/>
                </a:solidFill>
                <a:latin typeface="Lucida Sans Unicode"/>
              </a:rPr>
              <a:t>CARACTERÍSTICAS DEL SITIO Y PROCESOS DE ESTABLECI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imagenes.infojardin.com/subidos/images/cqs1208805742g.JPG"/>
          <p:cNvPicPr/>
          <p:nvPr/>
        </p:nvPicPr>
        <p:blipFill>
          <a:blip r:embed="rId1"/>
          <a:stretch/>
        </p:blipFill>
        <p:spPr>
          <a:xfrm>
            <a:off x="0" y="0"/>
            <a:ext cx="9144000" cy="6858000"/>
          </a:xfrm>
          <a:prstGeom prst="rect">
            <a:avLst/>
          </a:prstGeom>
          <a:ln w="0">
            <a:noFill/>
          </a:ln>
        </p:spPr>
      </p:pic>
      <p:sp>
        <p:nvSpPr>
          <p:cNvPr id="422" name="1 CuadroTexto"/>
          <p:cNvSpPr/>
          <p:nvPr/>
        </p:nvSpPr>
        <p:spPr>
          <a:xfrm>
            <a:off x="2357280" y="2428920"/>
            <a:ext cx="5429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2f2f2"/>
                </a:solidFill>
                <a:latin typeface="Arial"/>
              </a:rPr>
              <a:t>MUCHAS GRACI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97" descr=""/>
          <p:cNvPicPr/>
          <p:nvPr/>
        </p:nvPicPr>
        <p:blipFill>
          <a:blip r:embed="rId1"/>
          <a:srcRect l="0" t="15103" r="0" b="0"/>
          <a:stretch/>
        </p:blipFill>
        <p:spPr>
          <a:xfrm>
            <a:off x="14400" y="0"/>
            <a:ext cx="9129600" cy="6885000"/>
          </a:xfrm>
          <a:prstGeom prst="rect">
            <a:avLst/>
          </a:prstGeom>
          <a:ln w="0">
            <a:noFill/>
          </a:ln>
        </p:spPr>
      </p:pic>
      <p:sp>
        <p:nvSpPr>
          <p:cNvPr id="379" name=""/>
          <p:cNvSpPr txBox="1"/>
          <p:nvPr/>
        </p:nvSpPr>
        <p:spPr>
          <a:xfrm>
            <a:off x="500040" y="999720"/>
            <a:ext cx="8215200" cy="3714840"/>
          </a:xfrm>
          <a:prstGeom prst="rect">
            <a:avLst/>
          </a:prstGeom>
          <a:solidFill>
            <a:srgbClr val="ffc000">
              <a:alpha val="24000"/>
            </a:srgbClr>
          </a:solid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900" spc="-1" strike="noStrike">
                <a:solidFill>
                  <a:srgbClr val="000000"/>
                </a:solidFill>
                <a:latin typeface="Lucida Sans Unicode"/>
              </a:rPr>
              <a:t>Rhizophora mangle</a:t>
            </a:r>
            <a:r>
              <a:rPr b="0" lang="es-CO" sz="1900" spc="-1" strike="noStrike">
                <a:solidFill>
                  <a:srgbClr val="000000"/>
                </a:solidFill>
                <a:latin typeface="Lucida Sans Unicode"/>
              </a:rPr>
              <a:t>, especie asociada al ECOSISTEMA MANGLAR</a:t>
            </a:r>
            <a:endParaRPr b="0" lang="en-US" sz="19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Son humedales costeros. </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ncierran una gran riqueza natural.</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Son comunidades vegetales casí  monoespecíficas.  Predominando distintas especies conocidas como mangle.</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La distribución, composición y fisonomía de las comunidades de manglar están influidas por los cambios latitudinales, la temperatura y la precipitación. Localmente dependen de la geomorfología, el substrato, la salinidad, la inundación y el relieve (López-Portillo y Ezcurra, 2002).</a:t>
            </a:r>
            <a:endParaRPr b="0" lang="en-US" sz="1500" spc="-1" strike="noStrike">
              <a:solidFill>
                <a:srgbClr val="000000"/>
              </a:solidFill>
              <a:latin typeface="Lucida Sans Unicode"/>
            </a:endParaRPr>
          </a:p>
          <a:p>
            <a:pPr marL="361080" indent="-252720">
              <a:spcBef>
                <a:spcPts val="400"/>
              </a:spcBef>
              <a:buClr>
                <a:srgbClr val="1d314e"/>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1080" indent="-252720">
              <a:spcBef>
                <a:spcPts val="400"/>
              </a:spcBef>
              <a:buClr>
                <a:srgbClr val="1d314e"/>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p:txBody>
      </p:sp>
      <p:pic>
        <p:nvPicPr>
          <p:cNvPr id="380" name="1 Título" descr=""/>
          <p:cNvPicPr/>
          <p:nvPr/>
        </p:nvPicPr>
        <p:blipFill>
          <a:blip r:embed="rId2"/>
          <a:stretch/>
        </p:blipFill>
        <p:spPr>
          <a:xfrm>
            <a:off x="195120" y="146160"/>
            <a:ext cx="8498160" cy="860400"/>
          </a:xfrm>
          <a:prstGeom prst="rect">
            <a:avLst/>
          </a:prstGeom>
          <a:ln w="0">
            <a:noFill/>
          </a:ln>
        </p:spPr>
      </p:pic>
      <p:graphicFrame>
        <p:nvGraphicFramePr>
          <p:cNvPr id="381" name=""/>
          <p:cNvGraphicFramePr/>
          <p:nvPr/>
        </p:nvGraphicFramePr>
        <p:xfrm>
          <a:off x="1285920" y="4714920"/>
          <a:ext cx="6500880" cy="2043000"/>
        </p:xfrm>
        <a:graphic>
          <a:graphicData uri="http://schemas.openxmlformats.org/drawingml/2006/table">
            <a:tbl>
              <a:tblPr/>
              <a:tblGrid>
                <a:gridCol w="3251160"/>
                <a:gridCol w="32497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Hábitat de numerosas especies animales y vegetal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f5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Barreras contra huracanes e intrusión salina</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f5fa"/>
                    </a:solidFill>
                  </a:tcPr>
                </a:tc>
              </a:tr>
              <a:tr h="37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Sostienen la producción pesquera</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ntrolan la erosión y protegen las costa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mbustib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Mejoran la calidad del agua al funcionar como filtro biológic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Alto valor estético y recreativ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Mantienen procesos de sedimentación  entre otr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7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ntrol de inundacio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14200" y="1481040"/>
            <a:ext cx="8358480" cy="1447920"/>
          </a:xfrm>
          <a:prstGeom prst="rect">
            <a:avLst/>
          </a:prstGeom>
          <a:noFill/>
          <a:ln w="0">
            <a:noFill/>
          </a:ln>
        </p:spPr>
        <p:txBody>
          <a:bodyPr anchor="t">
            <a:normAutofit fontScale="82000"/>
          </a:bodyPr>
          <a:p>
            <a:pPr marL="299160" indent="-209520" algn="just">
              <a:lnSpc>
                <a:spcPct val="65000"/>
              </a:lnSpc>
              <a:spcBef>
                <a:spcPts val="400"/>
              </a:spcBef>
              <a:buClr>
                <a:srgbClr val="2da2bf"/>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México se ubica entre los países con mayor superficie de manglar, a nivel mundial (1% del territorio nacional con 655,667 ha).</a:t>
            </a:r>
            <a:endParaRPr b="0" lang="en-US" sz="16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Con cuatro especies de mangle: </a:t>
            </a:r>
            <a:r>
              <a:rPr b="0" i="1" lang="es-MX" sz="1600" spc="-1" strike="noStrike">
                <a:solidFill>
                  <a:srgbClr val="000000"/>
                </a:solidFill>
                <a:latin typeface="Lucida Sans Unicode"/>
              </a:rPr>
              <a:t>Rhizophora mangle</a:t>
            </a:r>
            <a:r>
              <a:rPr b="0" lang="es-MX" sz="1600" spc="-1" strike="noStrike">
                <a:solidFill>
                  <a:srgbClr val="000000"/>
                </a:solidFill>
                <a:latin typeface="Lucida Sans Unicode"/>
              </a:rPr>
              <a:t> (mangle rojo), </a:t>
            </a:r>
            <a:r>
              <a:rPr b="0" i="1" lang="es-MX" sz="1600" spc="-1" strike="noStrike">
                <a:solidFill>
                  <a:srgbClr val="000000"/>
                </a:solidFill>
                <a:latin typeface="Lucida Sans Unicode"/>
              </a:rPr>
              <a:t>Laguncularia racemosa </a:t>
            </a:r>
            <a:r>
              <a:rPr b="0" lang="es-MX" sz="1600" spc="-1" strike="noStrike">
                <a:solidFill>
                  <a:srgbClr val="000000"/>
                </a:solidFill>
                <a:latin typeface="Lucida Sans Unicode"/>
              </a:rPr>
              <a:t>(mangle blanco), </a:t>
            </a:r>
            <a:r>
              <a:rPr b="0" i="1" lang="es-MX" sz="1600" spc="-1" strike="noStrike">
                <a:solidFill>
                  <a:srgbClr val="000000"/>
                </a:solidFill>
                <a:latin typeface="Lucida Sans Unicode"/>
              </a:rPr>
              <a:t>Avicennia germinans </a:t>
            </a:r>
            <a:r>
              <a:rPr b="0" lang="es-MX" sz="1600" spc="-1" strike="noStrike">
                <a:solidFill>
                  <a:srgbClr val="000000"/>
                </a:solidFill>
                <a:latin typeface="Lucida Sans Unicode"/>
              </a:rPr>
              <a:t>(mangle negro, madre  de sal) y </a:t>
            </a:r>
            <a:r>
              <a:rPr b="0" i="1" lang="es-MX" sz="1600" spc="-1" strike="noStrike">
                <a:solidFill>
                  <a:srgbClr val="000000"/>
                </a:solidFill>
                <a:latin typeface="Lucida Sans Unicode"/>
              </a:rPr>
              <a:t>Conocarpus erectus </a:t>
            </a:r>
            <a:r>
              <a:rPr b="0" lang="es-MX" sz="1600" spc="-1" strike="noStrike">
                <a:solidFill>
                  <a:srgbClr val="000000"/>
                </a:solidFill>
                <a:latin typeface="Lucida Sans Unicode"/>
              </a:rPr>
              <a:t>(mangle botoncillo).</a:t>
            </a:r>
            <a:endParaRPr b="0" lang="en-US" sz="1600" spc="-1" strike="noStrike">
              <a:solidFill>
                <a:srgbClr val="000000"/>
              </a:solidFill>
              <a:latin typeface="Lucida Sans Unicode"/>
            </a:endParaRPr>
          </a:p>
        </p:txBody>
      </p:sp>
      <p:pic>
        <p:nvPicPr>
          <p:cNvPr id="383" name="1 Título" descr=""/>
          <p:cNvPicPr/>
          <p:nvPr/>
        </p:nvPicPr>
        <p:blipFill>
          <a:blip r:embed="rId1"/>
          <a:stretch/>
        </p:blipFill>
        <p:spPr>
          <a:xfrm>
            <a:off x="225360" y="122400"/>
            <a:ext cx="8467920" cy="1341360"/>
          </a:xfrm>
          <a:prstGeom prst="rect">
            <a:avLst/>
          </a:prstGeom>
          <a:ln w="0">
            <a:noFill/>
          </a:ln>
        </p:spPr>
      </p:pic>
      <p:grpSp>
        <p:nvGrpSpPr>
          <p:cNvPr id="384" name="12 Grupo"/>
          <p:cNvGrpSpPr/>
          <p:nvPr/>
        </p:nvGrpSpPr>
        <p:grpSpPr>
          <a:xfrm>
            <a:off x="5500800" y="3214800"/>
            <a:ext cx="3643200" cy="2581200"/>
            <a:chOff x="5500800" y="3214800"/>
            <a:chExt cx="3643200" cy="2581200"/>
          </a:xfrm>
        </p:grpSpPr>
        <p:pic>
          <p:nvPicPr>
            <p:cNvPr id="385" name="Picture 87" descr=""/>
            <p:cNvPicPr/>
            <p:nvPr/>
          </p:nvPicPr>
          <p:blipFill>
            <a:blip r:embed="rId2"/>
            <a:srcRect l="0" t="5878" r="0" b="3416"/>
            <a:stretch/>
          </p:blipFill>
          <p:spPr>
            <a:xfrm>
              <a:off x="5596560" y="3214800"/>
              <a:ext cx="3359880" cy="2428920"/>
            </a:xfrm>
            <a:prstGeom prst="rect">
              <a:avLst/>
            </a:prstGeom>
            <a:ln w="0">
              <a:noFill/>
            </a:ln>
          </p:spPr>
        </p:pic>
        <p:grpSp>
          <p:nvGrpSpPr>
            <p:cNvPr id="386" name="11 Grupo"/>
            <p:cNvGrpSpPr/>
            <p:nvPr/>
          </p:nvGrpSpPr>
          <p:grpSpPr>
            <a:xfrm>
              <a:off x="5500800" y="4075560"/>
              <a:ext cx="3643200" cy="1720440"/>
              <a:chOff x="5500800" y="4075560"/>
              <a:chExt cx="3643200" cy="1720440"/>
            </a:xfrm>
          </p:grpSpPr>
          <p:sp>
            <p:nvSpPr>
              <p:cNvPr id="387" name="Text Box 88"/>
              <p:cNvSpPr/>
              <p:nvPr/>
            </p:nvSpPr>
            <p:spPr>
              <a:xfrm>
                <a:off x="5500800" y="4649400"/>
                <a:ext cx="1401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Arial"/>
                  </a:rPr>
                  <a:t>Océano Pacífico</a:t>
                </a:r>
                <a:endParaRPr b="0" lang="en-US" sz="1600" spc="-1" strike="noStrike">
                  <a:solidFill>
                    <a:srgbClr val="000000"/>
                  </a:solidFill>
                  <a:latin typeface="Arial"/>
                </a:endParaRPr>
              </a:p>
            </p:txBody>
          </p:sp>
          <p:sp>
            <p:nvSpPr>
              <p:cNvPr id="388" name="Rectangle 90"/>
              <p:cNvSpPr/>
              <p:nvPr/>
            </p:nvSpPr>
            <p:spPr>
              <a:xfrm>
                <a:off x="5500800" y="5348160"/>
                <a:ext cx="289800" cy="17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91"/>
              <p:cNvSpPr/>
              <p:nvPr/>
            </p:nvSpPr>
            <p:spPr>
              <a:xfrm>
                <a:off x="5839560" y="5337000"/>
                <a:ext cx="173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Superficies de Manglar</a:t>
                </a:r>
                <a:endParaRPr b="0" lang="en-US" sz="1200" spc="-1" strike="noStrike">
                  <a:solidFill>
                    <a:srgbClr val="000000"/>
                  </a:solidFill>
                  <a:latin typeface="Arial"/>
                </a:endParaRPr>
              </a:p>
            </p:txBody>
          </p:sp>
          <p:sp>
            <p:nvSpPr>
              <p:cNvPr id="390" name="Text Box 92"/>
              <p:cNvSpPr/>
              <p:nvPr/>
            </p:nvSpPr>
            <p:spPr>
              <a:xfrm>
                <a:off x="7622280" y="4075560"/>
                <a:ext cx="144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Arial"/>
                  </a:rPr>
                  <a:t>Golfo de</a:t>
                </a:r>
                <a:r>
                  <a:rPr b="0" lang="es-ES" sz="1600" spc="-1" strike="noStrike">
                    <a:solidFill>
                      <a:srgbClr val="000000"/>
                    </a:solidFill>
                    <a:latin typeface="Arial"/>
                  </a:rPr>
                  <a:t> </a:t>
                </a:r>
                <a:r>
                  <a:rPr b="0" lang="es-ES" sz="1600" spc="-1" strike="noStrike">
                    <a:solidFill>
                      <a:srgbClr val="663300"/>
                    </a:solidFill>
                    <a:latin typeface="Arial"/>
                  </a:rPr>
                  <a:t>México</a:t>
                </a:r>
                <a:endParaRPr b="0" lang="en-US" sz="1600" spc="-1" strike="noStrike">
                  <a:solidFill>
                    <a:srgbClr val="000000"/>
                  </a:solidFill>
                  <a:latin typeface="Arial"/>
                </a:endParaRPr>
              </a:p>
            </p:txBody>
          </p:sp>
          <p:sp>
            <p:nvSpPr>
              <p:cNvPr id="391" name="Text Box 93"/>
              <p:cNvSpPr/>
              <p:nvPr/>
            </p:nvSpPr>
            <p:spPr>
              <a:xfrm>
                <a:off x="8520840" y="4696560"/>
                <a:ext cx="62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rPr>
                  <a:t>Mar Caribe</a:t>
                </a:r>
                <a:endParaRPr b="0" lang="en-US" sz="1000" spc="-1" strike="noStrike">
                  <a:solidFill>
                    <a:srgbClr val="000000"/>
                  </a:solidFill>
                  <a:latin typeface="Arial"/>
                </a:endParaRPr>
              </a:p>
            </p:txBody>
          </p:sp>
        </p:grpSp>
      </p:grpSp>
      <p:sp>
        <p:nvSpPr>
          <p:cNvPr id="392" name="10 CuadroTexto"/>
          <p:cNvSpPr/>
          <p:nvPr/>
        </p:nvSpPr>
        <p:spPr>
          <a:xfrm>
            <a:off x="214200" y="3714840"/>
            <a:ext cx="5143680" cy="22842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Las principales causas de deterioro son:</a:t>
            </a:r>
            <a:endParaRPr b="0" lang="en-US" sz="1600" spc="-1" strike="noStrike">
              <a:solidFill>
                <a:srgbClr val="000000"/>
              </a:solidFill>
              <a:latin typeface="Arial"/>
            </a:endParaRPr>
          </a:p>
          <a:p>
            <a:pPr marL="365040" indent="-255600" algn="just">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58960" algn="just">
              <a:lnSpc>
                <a:spcPct val="100000"/>
              </a:lnSpc>
              <a:buClr>
                <a:srgbClr val="227a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ea typeface="Arial"/>
              </a:rPr>
              <a:t>explotación maderera, extracción de taninos, construcción de caminos o carreteras, urbanización de zonas costeras , infraestructura turística, explotación y transporte de petróleo,  líneas de distribución de energía eléctrica. </a:t>
            </a:r>
            <a:endParaRPr b="0" lang="en-US" sz="1600" spc="-1" strike="noStrike">
              <a:solidFill>
                <a:srgbClr val="000000"/>
              </a:solidFill>
              <a:latin typeface="Arial"/>
            </a:endParaRPr>
          </a:p>
          <a:p>
            <a:pPr lvl="2" marL="858960" algn="just">
              <a:lnSpc>
                <a:spcPct val="100000"/>
              </a:lnSpc>
              <a:buClr>
                <a:srgbClr val="227a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Lucida Sans Unicode"/>
              </a:rPr>
              <a:t>Rhizophora mangle </a:t>
            </a:r>
            <a:r>
              <a:rPr b="0" lang="es-ES" sz="2700" spc="-1" strike="noStrike">
                <a:solidFill>
                  <a:srgbClr val="000000"/>
                </a:solidFill>
                <a:latin typeface="Lucida Sans Unicode"/>
              </a:rPr>
              <a:t>(mangle roj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4 CuadroTexto"/>
          <p:cNvSpPr/>
          <p:nvPr/>
        </p:nvSpPr>
        <p:spPr>
          <a:xfrm>
            <a:off x="428760" y="1928880"/>
            <a:ext cx="8001000" cy="33213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Aparece en la Norma oficial NOM-059-SEMARNAT 2001. Sujeto a protección especial</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Árbol o arbusto de 1.5 – 15 m de altura, halófito, perennifolio.</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Distribución en México: nivel del mar.</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colonización de nuevos hábitats ocurre a través de individuos producidos sexualmente.  Unidades de dispersión las plántulas, que provienen de propágulos del árbol (característica de viviparidad).</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Posee altos niveles de endogamia. La morfología de la flor favorece la autopolinización.</a:t>
            </a:r>
            <a:endParaRPr b="0" lang="en-US" sz="1600" spc="-1" strike="noStrike">
              <a:solidFill>
                <a:srgbClr val="000000"/>
              </a:solidFill>
              <a:latin typeface="Arial"/>
            </a:endParaRPr>
          </a:p>
        </p:txBody>
      </p:sp>
      <p:pic>
        <p:nvPicPr>
          <p:cNvPr id="395" name="Picture 2" descr=""/>
          <p:cNvPicPr/>
          <p:nvPr/>
        </p:nvPicPr>
        <p:blipFill>
          <a:blip r:embed="rId1"/>
          <a:stretch/>
        </p:blipFill>
        <p:spPr>
          <a:xfrm>
            <a:off x="5072040" y="5784840"/>
            <a:ext cx="4071960" cy="2146320"/>
          </a:xfrm>
          <a:prstGeom prst="rect">
            <a:avLst/>
          </a:prstGeom>
          <a:ln w="0">
            <a:noFill/>
          </a:ln>
        </p:spPr>
      </p:pic>
      <p:pic>
        <p:nvPicPr>
          <p:cNvPr id="396" name="1 Título" descr=""/>
          <p:cNvPicPr/>
          <p:nvPr/>
        </p:nvPicPr>
        <p:blipFill>
          <a:blip r:embed="rId2"/>
          <a:stretch/>
        </p:blipFill>
        <p:spPr>
          <a:xfrm>
            <a:off x="225360" y="92160"/>
            <a:ext cx="8212320" cy="120024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Título" descr=""/>
          <p:cNvPicPr/>
          <p:nvPr/>
        </p:nvPicPr>
        <p:blipFill>
          <a:blip r:embed="rId1"/>
          <a:stretch/>
        </p:blipFill>
        <p:spPr>
          <a:xfrm>
            <a:off x="231840" y="268200"/>
            <a:ext cx="8461440" cy="1158840"/>
          </a:xfrm>
          <a:prstGeom prst="rect">
            <a:avLst/>
          </a:prstGeom>
          <a:ln w="0">
            <a:noFill/>
          </a:ln>
        </p:spPr>
      </p:pic>
      <p:sp>
        <p:nvSpPr>
          <p:cNvPr id="398" name="7 CuadroTexto"/>
          <p:cNvSpPr/>
          <p:nvPr/>
        </p:nvSpPr>
        <p:spPr>
          <a:xfrm>
            <a:off x="571680" y="1285920"/>
            <a:ext cx="8001000" cy="427788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pecie de fácil adaptación a sitios salinos y anegados.  </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Presencia de estructuras para eliminar el exceso de sal, o estructuras para respirar (neumatóforos), raíces pivotantes o zancos que le permite adaptarse a medios fangosos</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orresponde a la zona ecológica acuática y subacuática</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asociaciones vegetales, muestran que en condiciones naturales se desarrolla acompañada con Avicenia germinans y Laguncularia racemosa como elementos dominates, forma asociaciones conocidas como Manglares</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Típicamente es la especie de mangle ubicada en la parte de mayor influencia salina (frente del manglar) y en la que el nivel de inundación es mayor.</a:t>
            </a:r>
            <a:endParaRPr b="0" lang="en-US" sz="1800" spc="-1" strike="noStrike">
              <a:solidFill>
                <a:srgbClr val="000000"/>
              </a:solidFill>
              <a:latin typeface="Arial"/>
            </a:endParaRPr>
          </a:p>
        </p:txBody>
      </p:sp>
      <p:pic>
        <p:nvPicPr>
          <p:cNvPr id="399" name="Picture 2" descr=""/>
          <p:cNvPicPr/>
          <p:nvPr/>
        </p:nvPicPr>
        <p:blipFill>
          <a:blip r:embed="rId2"/>
          <a:srcRect l="0" t="0" r="3254" b="0"/>
          <a:stretch/>
        </p:blipFill>
        <p:spPr>
          <a:xfrm>
            <a:off x="2286000" y="357120"/>
            <a:ext cx="6367320" cy="312444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399"/>
                                        </p:tgtEl>
                                        <p:attrNameLst>
                                          <p:attrName>style.visibility</p:attrName>
                                        </p:attrNameLst>
                                      </p:cBhvr>
                                      <p:to>
                                        <p:strVal val="visible"/>
                                      </p:to>
                                    </p:set>
                                    <p:animEffect filter="fade" transition="in">
                                      <p:cBhvr additive="repl">
                                        <p:cTn id="7" dur="1000"/>
                                        <p:tgtEl>
                                          <p:spTgt spid="399"/>
                                        </p:tgtEl>
                                      </p:cBhvr>
                                    </p:animEffect>
                                    <p:anim calcmode="lin" valueType="num">
                                      <p:cBhvr additive="repl">
                                        <p:cTn id="8" dur="1000" fill="hold"/>
                                        <p:tgtEl>
                                          <p:spTgt spid="399"/>
                                        </p:tgtEl>
                                        <p:attrNameLst>
                                          <p:attrName>ppt_x</p:attrName>
                                        </p:attrNameLst>
                                      </p:cBhvr>
                                      <p:tavLst>
                                        <p:tav tm="0">
                                          <p:val>
                                            <p:strVal val="#ppt_x"/>
                                          </p:val>
                                        </p:tav>
                                        <p:tav tm="100000">
                                          <p:val>
                                            <p:strVal val="#ppt_x"/>
                                          </p:val>
                                        </p:tav>
                                      </p:tavLst>
                                    </p:anim>
                                    <p:anim calcmode="lin" valueType="num">
                                      <p:cBhvr additive="repl">
                                        <p:cTn id="9"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10 Grupo"/>
          <p:cNvGrpSpPr/>
          <p:nvPr/>
        </p:nvGrpSpPr>
        <p:grpSpPr>
          <a:xfrm>
            <a:off x="4929120" y="2286000"/>
            <a:ext cx="3714840" cy="3357720"/>
            <a:chOff x="4929120" y="2286000"/>
            <a:chExt cx="3714840" cy="3357720"/>
          </a:xfrm>
        </p:grpSpPr>
        <p:pic>
          <p:nvPicPr>
            <p:cNvPr id="401" name="Picture 10" descr="http://app1.semarnat.gob.mx/dgeia/informe_04/02_vegetacion/imagenes/c2_mapa_a_vegMexico.gif"/>
            <p:cNvPicPr/>
            <p:nvPr/>
          </p:nvPicPr>
          <p:blipFill>
            <a:blip r:embed="rId1"/>
            <a:srcRect l="2501" t="13566" r="35005" b="22483"/>
            <a:stretch/>
          </p:blipFill>
          <p:spPr>
            <a:xfrm>
              <a:off x="4929120" y="2286000"/>
              <a:ext cx="3714840" cy="3357720"/>
            </a:xfrm>
            <a:prstGeom prst="rect">
              <a:avLst/>
            </a:prstGeom>
            <a:ln w="0">
              <a:noFill/>
            </a:ln>
          </p:spPr>
        </p:pic>
        <p:sp>
          <p:nvSpPr>
            <p:cNvPr id="402" name="9 Elipse"/>
            <p:cNvSpPr/>
            <p:nvPr/>
          </p:nvSpPr>
          <p:spPr>
            <a:xfrm>
              <a:off x="8421840" y="4219560"/>
              <a:ext cx="147600" cy="507960"/>
            </a:xfrm>
            <a:prstGeom prst="ellipse">
              <a:avLst/>
            </a:prstGeom>
            <a:solidFill>
              <a:srgbClr val="ffc000">
                <a:alpha val="27000"/>
              </a:srgbClr>
            </a:soli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7 Grupo"/>
          <p:cNvGrpSpPr/>
          <p:nvPr/>
        </p:nvGrpSpPr>
        <p:grpSpPr>
          <a:xfrm>
            <a:off x="5133960" y="2071800"/>
            <a:ext cx="4010040" cy="4262400"/>
            <a:chOff x="5133960" y="2071800"/>
            <a:chExt cx="4010040" cy="4262400"/>
          </a:xfrm>
        </p:grpSpPr>
        <p:pic>
          <p:nvPicPr>
            <p:cNvPr id="404" name="Picture 2" descr="SR_SianKan_ITRF92"/>
            <p:cNvPicPr/>
            <p:nvPr/>
          </p:nvPicPr>
          <p:blipFill>
            <a:blip r:embed="rId2"/>
            <a:srcRect l="2845" t="2757" r="3384" b="20606"/>
            <a:stretch/>
          </p:blipFill>
          <p:spPr>
            <a:xfrm>
              <a:off x="5133960" y="2071800"/>
              <a:ext cx="4010040" cy="4241880"/>
            </a:xfrm>
            <a:prstGeom prst="rect">
              <a:avLst/>
            </a:prstGeom>
            <a:ln w="0">
              <a:noFill/>
            </a:ln>
          </p:spPr>
        </p:pic>
        <p:sp>
          <p:nvSpPr>
            <p:cNvPr id="405" name="Text Box 3"/>
            <p:cNvSpPr/>
            <p:nvPr/>
          </p:nvSpPr>
          <p:spPr>
            <a:xfrm>
              <a:off x="7272360" y="3732120"/>
              <a:ext cx="180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Manglar de Sian Ka´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8" descr="CIMG2208"/>
            <p:cNvPicPr/>
            <p:nvPr/>
          </p:nvPicPr>
          <p:blipFill>
            <a:blip r:embed="rId3"/>
            <a:stretch/>
          </p:blipFill>
          <p:spPr>
            <a:xfrm>
              <a:off x="5143320" y="4929480"/>
              <a:ext cx="1874880" cy="1404720"/>
            </a:xfrm>
            <a:prstGeom prst="rect">
              <a:avLst/>
            </a:prstGeom>
            <a:ln w="0">
              <a:noFill/>
            </a:ln>
          </p:spPr>
        </p:pic>
      </p:grpSp>
      <p:sp>
        <p:nvSpPr>
          <p:cNvPr id="407" name=""/>
          <p:cNvSpPr txBox="1"/>
          <p:nvPr/>
        </p:nvSpPr>
        <p:spPr>
          <a:xfrm>
            <a:off x="214200" y="2714760"/>
            <a:ext cx="4500720" cy="371448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Declarado Patrimonio de la humanidad por la UNESCO (1987).</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Declarado Sitio Ramsar en 1986.</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Localizado cerca de centros turísticos importantes como Cancún, Cozumel e Isla Mujeres.</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08" name="1 Título" descr=""/>
          <p:cNvPicPr/>
          <p:nvPr/>
        </p:nvPicPr>
        <p:blipFill>
          <a:blip r:embed="rId4"/>
          <a:stretch/>
        </p:blipFill>
        <p:spPr>
          <a:xfrm>
            <a:off x="195120" y="268200"/>
            <a:ext cx="8498160" cy="1158840"/>
          </a:xfrm>
          <a:prstGeom prst="rect">
            <a:avLst/>
          </a:prstGeom>
          <a:ln w="0">
            <a:noFill/>
          </a:ln>
        </p:spPr>
      </p:pic>
      <p:sp>
        <p:nvSpPr>
          <p:cNvPr id="409" name="6 CuadroTexto"/>
          <p:cNvSpPr/>
          <p:nvPr/>
        </p:nvSpPr>
        <p:spPr>
          <a:xfrm>
            <a:off x="285840" y="1285920"/>
            <a:ext cx="8572320" cy="12927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La Reserva de la Biosfera Sian Ka'an se localiza en la costa caribeña del estado de Quintana Roo, Península de Yucatán (México).</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Superficie aproximada: 528, 148 ha (CONANP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00"/>
                                        </p:tgtEl>
                                        <p:attrNameLst>
                                          <p:attrName>style.visibility</p:attrName>
                                        </p:attrNameLst>
                                      </p:cBhvr>
                                      <p:to>
                                        <p:strVal val="visible"/>
                                      </p:to>
                                    </p:set>
                                    <p:animEffect filter="fade" transition="in">
                                      <p:cBhvr additive="repl">
                                        <p:cTn id="16" dur="1000"/>
                                        <p:tgtEl>
                                          <p:spTgt spid="400"/>
                                        </p:tgtEl>
                                      </p:cBhvr>
                                    </p:animEffect>
                                    <p:anim calcmode="lin" valueType="num">
                                      <p:cBhvr additive="repl">
                                        <p:cTn id="17" dur="1000" fill="hold"/>
                                        <p:tgtEl>
                                          <p:spTgt spid="400"/>
                                        </p:tgtEl>
                                        <p:attrNameLst>
                                          <p:attrName>ppt_x</p:attrName>
                                        </p:attrNameLst>
                                      </p:cBhvr>
                                      <p:tavLst>
                                        <p:tav tm="0">
                                          <p:val>
                                            <p:strVal val="#ppt_x"/>
                                          </p:val>
                                        </p:tav>
                                        <p:tav tm="100000">
                                          <p:val>
                                            <p:strVal val="#ppt_x"/>
                                          </p:val>
                                        </p:tav>
                                      </p:tavLst>
                                    </p:anim>
                                    <p:anim calcmode="lin" valueType="num">
                                      <p:cBhvr additive="repl">
                                        <p:cTn id="18"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403"/>
                                        </p:tgtEl>
                                        <p:attrNameLst>
                                          <p:attrName>style.visibility</p:attrName>
                                        </p:attrNameLst>
                                      </p:cBhvr>
                                      <p:to>
                                        <p:strVal val="visible"/>
                                      </p:to>
                                    </p:set>
                                    <p:animEffect filter="fade" transition="in">
                                      <p:cBhvr additive="repl">
                                        <p:cTn id="23" dur="1000"/>
                                        <p:tgtEl>
                                          <p:spTgt spid="403"/>
                                        </p:tgtEl>
                                      </p:cBhvr>
                                    </p:animEffect>
                                    <p:anim calcmode="lin" valueType="num">
                                      <p:cBhvr additive="repl">
                                        <p:cTn id="24" dur="1000" fill="hold"/>
                                        <p:tgtEl>
                                          <p:spTgt spid="403"/>
                                        </p:tgtEl>
                                        <p:attrNameLst>
                                          <p:attrName>ppt_x</p:attrName>
                                        </p:attrNameLst>
                                      </p:cBhvr>
                                      <p:tavLst>
                                        <p:tav tm="0">
                                          <p:val>
                                            <p:strVal val="#ppt_x"/>
                                          </p:val>
                                        </p:tav>
                                        <p:tav tm="100000">
                                          <p:val>
                                            <p:strVal val="#ppt_x"/>
                                          </p:val>
                                        </p:tav>
                                      </p:tavLst>
                                    </p:anim>
                                    <p:anim calcmode="lin" valueType="num">
                                      <p:cBhvr additive="repl">
                                        <p:cTn id="25"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1642680"/>
            <a:ext cx="8229600" cy="3019320"/>
          </a:xfrm>
          <a:prstGeom prst="rect">
            <a:avLst/>
          </a:prstGeom>
          <a:noFill/>
          <a:ln w="0">
            <a:noFill/>
          </a:ln>
        </p:spPr>
        <p:txBody>
          <a:bodyPr anchor="t">
            <a:normAutofit/>
          </a:bodyPr>
          <a:p>
            <a:pPr marL="365040" indent="-4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nstrucción de un camino de terracería que interrumpió el flujo hídrico superficial entre el mar y el manglar, alterando la tasa de recambio y la salinidad de las aguas que bañan los sistemas radicales de la especie. </a:t>
            </a:r>
            <a:endParaRPr b="0" lang="en-US" sz="2700" spc="-1" strike="noStrike">
              <a:solidFill>
                <a:srgbClr val="000000"/>
              </a:solidFill>
              <a:latin typeface="Lucida Sans Unicode"/>
            </a:endParaRPr>
          </a:p>
          <a:p>
            <a:pPr marL="365040" indent="-4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85640" y="1600200"/>
            <a:ext cx="8229600" cy="1185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1 Título" descr=""/>
          <p:cNvPicPr/>
          <p:nvPr/>
        </p:nvPicPr>
        <p:blipFill>
          <a:blip r:embed="rId1"/>
          <a:stretch/>
        </p:blipFill>
        <p:spPr>
          <a:xfrm>
            <a:off x="231840" y="139680"/>
            <a:ext cx="8461440" cy="1311120"/>
          </a:xfrm>
          <a:prstGeom prst="rect">
            <a:avLst/>
          </a:prstGeom>
          <a:ln w="0">
            <a:noFill/>
          </a:ln>
        </p:spPr>
      </p:pic>
      <p:sp>
        <p:nvSpPr>
          <p:cNvPr id="414" name="3 CuadroTexto"/>
          <p:cNvSpPr/>
          <p:nvPr/>
        </p:nvSpPr>
        <p:spPr>
          <a:xfrm>
            <a:off x="571680" y="1468440"/>
            <a:ext cx="7858080" cy="451332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Se plantea realizar un reforzamiento en el área ya que parte de la población desapareció totalmente en un área.</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Es una especie protegida por las leyes mexicanas, la cual esta expuesta a fuerte presión en cuanto a cambio de uso de suelo por diversos aprovechamientos.</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Al ser una reserva de la biosfera es importante mantener la mayoría de las poblaciones de especies amenazadas en buen estado, para evitar una degradación del ecosistema así como mantener su valor ecológico y de sitio RAMSAR</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Existen altos niveles de diferenciación genética debido a parámetros  biogeográficos, por lo que la perdida de una población puede significar la desaparición de una variación morfológ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umentar la abundancia y la extensión de la población de </a:t>
            </a:r>
            <a:r>
              <a:rPr b="0" i="1" lang="es-MX" sz="2700" spc="-1" strike="noStrike">
                <a:solidFill>
                  <a:srgbClr val="000000"/>
                </a:solidFill>
                <a:latin typeface="Lucida Sans Unicode"/>
              </a:rPr>
              <a:t>Rhizophora mangle</a:t>
            </a:r>
            <a:r>
              <a:rPr b="0" lang="es-MX" sz="2700" spc="-1" strike="noStrike">
                <a:solidFill>
                  <a:srgbClr val="000000"/>
                </a:solidFill>
                <a:latin typeface="Lucida Sans Unicode"/>
              </a:rPr>
              <a:t> en la Reserva de la Biosfera de Sian Ka’an. </a:t>
            </a: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32323"/>
                </a:solidFill>
                <a:latin typeface="Lucida Sans Unicode"/>
              </a:rPr>
              <a:t>OBJETIVOS ESPECIFIC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Alcanzar en el menor tiempo posible un tamaño de población adecuado</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Lograr que la población una vez adulta tenga la capacidad de autorregenerse para que se estabilice el ecosistema</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16" name="2 Título" descr=""/>
          <p:cNvPicPr/>
          <p:nvPr/>
        </p:nvPicPr>
        <p:blipFill>
          <a:blip r:embed="rId1"/>
          <a:stretch/>
        </p:blipFill>
        <p:spPr>
          <a:xfrm>
            <a:off x="255600" y="60480"/>
            <a:ext cx="84805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09:24:44Z</dcterms:created>
  <dc:creator>Lumypisi</dc:creator>
  <dc:description/>
  <dc:language>en-US</dc:language>
  <cp:lastModifiedBy>Alin Antonio Peña Santana</cp:lastModifiedBy>
  <dcterms:modified xsi:type="dcterms:W3CDTF">2009-04-24T15:08:29Z</dcterms:modified>
  <cp:revision>52</cp:revision>
  <dc:subject/>
  <dc:title>REINTRODUCCIÓN DE Rizophora mangle</dc:title>
</cp:coreProperties>
</file>